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5A2E-0506-463C-B5C3-A189E59E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B138-5E40-4FEC-95E9-629C28FF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14E3-2532-4402-B37F-03FF4E78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47C1-E987-4A2A-95D7-827CD5FC7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1CB3-CBE1-4524-90DC-BD5EE7A3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69B1-1E76-489E-A325-E902C3AB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154C-E0A3-4A52-B2BF-91B03E9E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E0FD-14DC-4783-8EC2-FBE8C254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C106-A1DE-4C7A-BE41-B669497D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14A9-192A-419C-843C-BD8B0D3C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8ED1-697F-4597-81C1-47D6D688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C1CE-13D9-4810-AA54-6B6F8EA0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7C3A-8A44-4E50-A608-9BD5972D5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I: Representing Mock Patient Data in HL7 Standard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en 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2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L7 CDA For Clinical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60400" y="1450800"/>
          <a:ext cx="5623200" cy="5407200"/>
        </p:xfrm>
        <a:graphic>
          <a:graphicData uri="http://schemas.openxmlformats.org/drawingml/2006/table">
            <a:tbl>
              <a:tblPr/>
              <a:tblGrid>
                <a:gridCol w="331920"/>
                <a:gridCol w="1336680"/>
                <a:gridCol w="1295280"/>
                <a:gridCol w="121932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ment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df:Propert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din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owl:Restric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M Sour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dfs:domai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dfs:rang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Docu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cu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Docu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structureRo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od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ective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identiality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guage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xtStru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sion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xtStru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py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cu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ordTarg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&lt;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ordTarge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xtControl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tientRo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tientRo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&lt;II&g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.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&lt;AD&g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I Mock Up Patient Data in CDA Document 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On 19 April, 54-year-old man with diabetes was referred to the Hypertension Clinic in Jichi Medical School Hospital with symptoms of dizziness and orthostatic intoler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CDA header -  where you can find th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9120" y="3247560"/>
            <a:ext cx="756612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linicalDocument xmlns="urn:hl7-org:v3" xmlns:mif="urn:hl7-org:v3/mif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ns:xsi="http://www.w3.org/2001/XMLSchema-instance" xsi:schemaLocation="urn:hl7-org:v3 CDA.xsd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ypeId root="2.16.840.1.113883.1.3" extension="POCD_HD000040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d extension = "c266" root="2.16.840.1.113883.3933"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ode code="11488-4" codeSystem="2.16.840.1.113883.6.1" displayName=“ReferNote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ypertension Clinica in JiChi Medical School Hospital&lt;/titl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effectiveTime value=“200704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onfidentialityCode code="N" codeSystem="2.16.840.1.113883.5.25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setId extension="BB35" root="2.16.840.1.113883.3.93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versionNumber value="2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legalAuthenticato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utho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ustodia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I Mock Up Patient Data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CDA section -  where to find specific patient information: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560" y="2133360"/>
            <a:ext cx="65815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ecordTarge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atientRo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d extension="12345" root="2.16.840.1.113883.3.933"/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atient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na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given&gt;Henry&lt;/given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amily&gt;Levin&lt;/famil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suffix&gt;the 7th&lt;/suffix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name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dministrativeGenderCode code="M" codeSystem="2.16.840.1.113883.5.1"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birthTime value="19540924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patien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roviderOrganiz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d extension="M345" root="2.16.840.1.113883.3.933"/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providerOrganiz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patientRo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recordTarge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I Mock Up Patient Data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CDA section -  patient present medical condition: deb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0600" y="2057040"/>
            <a:ext cx="397836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sec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ode code=“1234-5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System="2.16.840.1.113883.6.1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SystemName="LOINC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itle&gt;Present Medical Condition&lt;/tit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ex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has &lt;content ID=“d1"&gt;Diebetes&lt;/conten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ex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entr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observation classCode="OBS" moodCode="EVN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ode code=“1234567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System="2.16.840.1.113883.6.96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SystemName="SNOMED CT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Name=“Diebetes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originalTex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eference value="#d1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originalTex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co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statusCode code="completed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observ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entr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sec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I Mock Up Patient Data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CDA section -  patient past medical history: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78080" y="1966680"/>
            <a:ext cx="4597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sec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ode code=“1234-5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System="2.16.840.1.113883.6.1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SystemName="LOINC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itle&gt;Present Medical History&lt;/tit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ex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history of &lt;content ID=“d2"&gt;Hypertension&lt;/conten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ex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entr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observation classCode="OBS" moodCode="EVN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ode code=“1234567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System="2.16.840.1.113883.6.96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SystemName="SNOMED CT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Name=“Hypertension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originalTex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eference value="#d2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originalTex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co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statusCode code="completed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ctivityTime time=“20050629”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observ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entr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sec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sing RIM V3 in O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-Level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472932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95480" y="1143000"/>
            <a:ext cx="2781360" cy="5586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881240" y="2787480"/>
            <a:ext cx="404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lass hierarchy is constru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rding to ACT Type cod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ity, Participation, R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81240" y="2787480"/>
            <a:ext cx="42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class hierarchies are constru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rding to respective type code t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32227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leLink and ActRelationship As Proper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49528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L7 Vocabulary And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21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L7 Data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329076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L7 CDA For Clinical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A are used as schemas for recording clinical events in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unique ident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Typ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tiality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Content (such as tables, list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XML Content (such as sounds, video clip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lation of XDS Schema To OWL Constr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14680" y="1967040"/>
          <a:ext cx="5715000" cy="2925720"/>
        </p:xfrm>
        <a:graphic>
          <a:graphicData uri="http://schemas.openxmlformats.org/drawingml/2006/table">
            <a:tbl>
              <a:tblPr/>
              <a:tblGrid>
                <a:gridCol w="2286000"/>
                <a:gridCol w="1714680"/>
                <a:gridCol w="17143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S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W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xs:schema|t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argetNamespac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df:RDF|xml:b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e the namespac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xs:schema|xmln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df:RDF|xml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e the default namespac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s:complexType|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wl:Cl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es the cla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s:complexType//element or xs:element|attrib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wl:DatatypeProperty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wl:ObjectProperty owl:Restriction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df:OnProper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es the properties and restrictions of the cla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s:attrib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wl:DatatypeProper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es the datatype properti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s:element@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dfs: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es the range of cla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s:maxOccurs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s:minOcc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wl:maxCardinality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wl:minCardin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es the number of class’ relationship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1300680" y="5334120"/>
            <a:ext cx="69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not alll xds constructs used in CDA schema can be trans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WL constructs, such as “optional” and “includ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3:43:22Z</dcterms:created>
  <dc:creator>agfa</dc:creator>
  <dc:description/>
  <dc:language>en-US</dc:language>
  <cp:lastModifiedBy>agfa</cp:lastModifiedBy>
  <dcterms:modified xsi:type="dcterms:W3CDTF">2008-02-12T15:26:24Z</dcterms:modified>
  <cp:revision>5</cp:revision>
  <dc:subject/>
  <dc:title>COI: Representing Mock Patient Data in HL7 Standards An example</dc:title>
</cp:coreProperties>
</file>